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FEF3-2840-412B-B8AA-2E86899C9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F45-4AD1-4029-B2CB-0409E177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biocision.com/6524/cryopreservation-intact-blood-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A37A-B622-4A3A-92C0-643ADB36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dealbite.com/snuff-out-the-silent-killer-with-natures-natural-remedies-for-hypertens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48C5-B79E-4AE3-8234-85ED5B320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skin-problems-and-treatments/understanding-varicose-veins-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6EB9-157D-4A9F-B84C-7ED5354D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positphotos.com/2896646/stock-photo-Lymphatic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3CF6-F570-467E-9062-4BDC0A439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ivescience.com/26983-lymphatic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9F3E-38B5-4AC4-8D44-08AA005D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083-3FE9-4D5D-A49E-C964CA03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66A0-381E-4B6A-875B-8275AD2B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mm.org/heart/lessons/heartDiagr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A5F-45F3-4C3E-A231-A6D5BA36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eltina.org/health-dictionary/atrioventricular-av-no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16FA-9614-489B-B84F-BFAC9E46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attiasansone.blogspot.ca/2013/11/le-basi-dellec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64C6-D23B-41F4-ABE3-3EBCDAC1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C937-2842-4C37-8FB5-69B8E787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27D-4226-4399-B456-776AFD497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onbarron.org/article/arteries-and-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4FFE-D26C-4F2B-B728-7B7244E2E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mergencymedicaled.com/Illustrations/Pulse%20Poi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eel pulse when large arteries close to the skin expand as blood pumps thr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re radial &amp; carot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A2DF-E95C-4583-BA2E-2765BDC44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tid pulse image: http://www.emergencycareforyou.org/ER101/Default.aspx?id=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l &amp; Brachial pulse image: http://www.hopkinsmedicine.org/healthlibrary/conditions/cardiovascular_diseases/vital_signs_body_temperature_pulse_rate_respiration_rate_blood_pressure_85,P0086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E4EA-3BCD-4CC0-B85B-75CAAF99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D66-3160-4FA8-8A15-9496BEBB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idport.com/reflib/science/HumanBody/Cardiovascular/Capillar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5491-9DB3-4181-8629-3855063E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bio-152-note-cards/deck/56733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apillary sphincters control blood flow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485-CBC7-4025-A0E5-F38A7E60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onbarron.org/article/arteries-and-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AC0-718A-4FE0-A759-36F0DC49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E09-7207-41C6-80C2-4A3FA662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FBF-9AA3-40E4-9749-F4B79B15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793-1102-41A9-BFE8-838831D0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E60-9825-4C71-AD48-5975255E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A3D-5B29-4F1F-A540-B9C5DC85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BC7-FEC4-4921-9EB1-337C161C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C6E-4394-4DF6-B53B-E9A1369A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7BB-23DA-402F-A1DB-0750791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D33-12FB-4B80-85D1-24C5E092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B80-4B4A-486A-AFB1-1D774EC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67F-8DEE-4752-86A6-7E2694F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7B42-A7CA-4711-92F3-3C18B510E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kids.britannica.com/lm/animations/olympha001d4/produc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YZ4daFwMa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571464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3 &amp;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hypertension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understanding_varicose_veins_basics"/>
          <p:cNvPicPr/>
          <p:nvPr/>
        </p:nvPicPr>
        <p:blipFill>
          <a:blip r:embed="rId1"/>
          <a:stretch/>
        </p:blipFill>
        <p:spPr>
          <a:xfrm>
            <a:off x="274320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shutterstock_108567068"/>
          <p:cNvPicPr/>
          <p:nvPr/>
        </p:nvPicPr>
        <p:blipFill>
          <a:blip r:embed="rId1"/>
          <a:stretch/>
        </p:blipFill>
        <p:spPr>
          <a:xfrm>
            <a:off x="2541600" y="609480"/>
            <a:ext cx="405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phatic system helps ensure that blood volume is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s excess tissue fluid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returns it to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e System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bacteria &amp; other harmful components fro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mph 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enlargements where leukocytes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iltering station &amp; reservoir of erythrocytes &amp; leuk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ion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.britannica.com/lm/animations/olympha001d4/produ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4" descr="heartDiagram.gif"/>
          <p:cNvPicPr/>
          <p:nvPr/>
        </p:nvPicPr>
        <p:blipFill>
          <a:blip r:embed="rId1"/>
          <a:srcRect l="-41030" t="0" r="-41030" b="0"/>
          <a:stretch/>
        </p:blipFill>
        <p:spPr>
          <a:xfrm>
            <a:off x="468360" y="1052640"/>
            <a:ext cx="8351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entricles contracted (blood is pumped from the ventric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entricles relaxed (blood fills ventricl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bea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bb-dub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d by the valves 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Rhy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tes heartbeat;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cemak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ies signal to ventr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atrioventricular__av__node"/>
          <p:cNvPicPr/>
          <p:nvPr/>
        </p:nvPicPr>
        <p:blipFill>
          <a:blip r:embed="rId1"/>
          <a:stretch/>
        </p:blipFill>
        <p:spPr>
          <a:xfrm>
            <a:off x="4267080" y="235260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CG trace &amp; basics"/>
          <p:cNvPicPr/>
          <p:nvPr/>
        </p:nvPicPr>
        <p:blipFill>
          <a:blip r:embed="rId1"/>
          <a:stretch/>
        </p:blipFill>
        <p:spPr>
          <a:xfrm>
            <a:off x="1852560" y="1981080"/>
            <a:ext cx="54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42-08-BloodVesselStruct-AL"/>
          <p:cNvPicPr/>
          <p:nvPr/>
        </p:nvPicPr>
        <p:blipFill>
          <a:blip r:embed="rId1"/>
          <a:stretch/>
        </p:blipFill>
        <p:spPr>
          <a:xfrm>
            <a:off x="1246320" y="1676520"/>
            <a:ext cx="6726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nimation shows the cardiac cycle &amp; how it corresponds to the waves on the EC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RYZ4daFwMa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heart toward body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ity of the walls ensures constant flow of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rtery"/>
          <p:cNvPicPr/>
          <p:nvPr/>
        </p:nvPicPr>
        <p:blipFill>
          <a:blip r:embed="rId1"/>
          <a:stretch/>
        </p:blipFill>
        <p:spPr>
          <a:xfrm>
            <a:off x="4343400" y="2109960"/>
            <a:ext cx="449568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PULSEPT2"/>
          <p:cNvPicPr/>
          <p:nvPr/>
        </p:nvPicPr>
        <p:blipFill>
          <a:blip r:embed="rId1"/>
          <a:stretch/>
        </p:blipFill>
        <p:spPr>
          <a:xfrm>
            <a:off x="2190600" y="609480"/>
            <a:ext cx="476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your pul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6" descr="Man-taking-Pulse"/>
          <p:cNvPicPr/>
          <p:nvPr/>
        </p:nvPicPr>
        <p:blipFill>
          <a:blip r:embed="rId1"/>
          <a:stretch/>
        </p:blipFill>
        <p:spPr>
          <a:xfrm>
            <a:off x="457200" y="1981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7" descr="GetImage"/>
          <p:cNvPicPr/>
          <p:nvPr/>
        </p:nvPicPr>
        <p:blipFill>
          <a:blip r:embed="rId2"/>
          <a:stretch/>
        </p:blipFill>
        <p:spPr>
          <a:xfrm>
            <a:off x="4749840" y="1676520"/>
            <a:ext cx="3835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i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muscles in arterioles can ca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ts blood flow toward areas of need, e.g., during exercise, cold tempera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blood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ody cell is further than 2 cells away from a capil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gas, nutrient, waste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pillary"/>
          <p:cNvPicPr/>
          <p:nvPr/>
        </p:nvPicPr>
        <p:blipFill>
          <a:blip r:embed="rId1"/>
          <a:stretch/>
        </p:blipFill>
        <p:spPr>
          <a:xfrm>
            <a:off x="4343400" y="2754360"/>
            <a:ext cx="4495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creen_shot_2012-11-12_at_83922_pm1352770773804"/>
          <p:cNvPicPr/>
          <p:nvPr/>
        </p:nvPicPr>
        <p:blipFill>
          <a:blip r:embed="rId1"/>
          <a:stretch/>
        </p:blipFill>
        <p:spPr>
          <a:xfrm>
            <a:off x="2503440" y="609480"/>
            <a:ext cx="413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les &amp;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layer not as thick (not as ela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ves &amp; skeletal muscles ensure blood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vein"/>
          <p:cNvPicPr/>
          <p:nvPr/>
        </p:nvPicPr>
        <p:blipFill>
          <a:blip r:embed="rId1"/>
          <a:stretch/>
        </p:blipFill>
        <p:spPr>
          <a:xfrm>
            <a:off x="4191120" y="2320920"/>
            <a:ext cx="4572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9:42:19Z</dcterms:created>
  <dc:creator>rubina khan</dc:creator>
  <dc:description/>
  <dc:language>en-US</dc:language>
  <cp:lastModifiedBy>rubina khan</cp:lastModifiedBy>
  <dcterms:modified xsi:type="dcterms:W3CDTF">2017-05-23T10:31:30Z</dcterms:modified>
  <cp:revision>100</cp:revision>
  <dc:subject/>
  <dc:title>Circulatory System 2</dc:title>
</cp:coreProperties>
</file>